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023-8B91-4D4B-AA90-272E1D79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188-12E8-4E09-BC87-7B43A5E9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0FC-FD75-4010-BF7A-5873913B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B7F-A8F5-4192-8B62-E639004D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3E77-F6C8-4914-B77D-67610D9E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51D4-1705-44F9-9A78-3E6CE5C5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BD45-7B58-4482-B71B-FE194D0D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B358-73BF-4298-AB01-A0B2B5CC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0717-C584-47EF-8E98-16C2D102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7D01-CA8B-4EB6-81A5-CC146F33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5262-6EAE-4A99-845B-C6E99F06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E2A-68A4-47F1-8F33-2D5A526D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A4C4-D37F-4603-BACF-2744247D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940F-8F4C-400A-88A6-CB3BBB28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1BA0-1089-4BCD-BD18-8C260116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20A3-9FE2-481B-903E-5F753646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B693-AE3A-407D-B936-5153E961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754-F04D-42C3-BC1E-1BF6BB0A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78C-5021-4D6D-B4A0-3A39AE67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991-32B9-4D6A-AC70-66FA1852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4F3-5295-4609-9D33-DF154FF4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72A-C4A2-45A1-B2E4-49E0A094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7C9-C7EE-4DEE-8A20-461EF27A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50B-CF68-4862-B94B-0D1E7C78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1C4E-F9B3-4F5A-8128-0DA49AC0F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B85A-758B-4DEC-9538-53C1A9E22642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eam Awesome += 5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971960"/>
            <a:ext cx="79246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PICo Design Presentatio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ouglas Grosvenor, Terence Crumbley, Jeffrey Gaither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ulse Generato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9144000" cy="1930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484360" y="1125360"/>
            <a:ext cx="42213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ulse Signa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lue – Input sig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range – Output sig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70358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ord Line Generato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7" name="Rectangle 7" descr=""/>
          <p:cNvPicPr/>
          <p:nvPr/>
        </p:nvPicPr>
        <p:blipFill>
          <a:blip r:embed="rId2"/>
          <a:stretch/>
        </p:blipFill>
        <p:spPr>
          <a:xfrm>
            <a:off x="0" y="3362400"/>
            <a:ext cx="9144000" cy="3495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19280" y="1197000"/>
            <a:ext cx="540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6 to 64 Decod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63640" y="1268280"/>
            <a:ext cx="2478240" cy="558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651640" y="1268280"/>
            <a:ext cx="15238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esting</a:t>
            </a:r>
            <a:br>
              <a:rPr sz="4400"/>
            </a:b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pproach On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rner Simul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our Bitcell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C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Based on extracted layout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pproach Tw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ull word, read/writ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ctive/Inactiv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ifferent word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 of Read/Writ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709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nalysi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etric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ow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rea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rea*(Delay^2)*Pow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067280" y="1557360"/>
          <a:ext cx="4681080" cy="3286080"/>
        </p:xfrm>
        <a:graphic>
          <a:graphicData uri="http://schemas.openxmlformats.org/drawingml/2006/table">
            <a:tbl>
              <a:tblPr/>
              <a:tblGrid>
                <a:gridCol w="1835280"/>
                <a:gridCol w="28458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ric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5e11 mW*n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µ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cell are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.4µ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rea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M µ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 pow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.43m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 pow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.39m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ower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005mW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 dela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 dela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elay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ns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sig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st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etric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ense Amp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1573200"/>
            <a:ext cx="8208720" cy="528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012000" y="260280"/>
            <a:ext cx="27572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sig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st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etric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2 to 4 Decod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1238400"/>
            <a:ext cx="6800760" cy="5619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77080" y="0"/>
            <a:ext cx="2116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2 to 4 Enable Dec.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24000" y="2238480"/>
            <a:ext cx="8372160" cy="4619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659640" y="0"/>
            <a:ext cx="2317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itcel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1252440"/>
            <a:ext cx="7056360" cy="5605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443640" y="549360"/>
            <a:ext cx="24732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490760"/>
            <a:ext cx="91440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 cont’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6920" y="1262160"/>
            <a:ext cx="76424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mulation cont’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748836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nse Am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iring problems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ICo SRA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ow pow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1 Mb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Long lifetim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etric: (Total Power)^2 * Delay * Area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igh spee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64 kb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Encryption/Compression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etric: (Total Power) * Delay^2 * Area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sig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32bit word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2 words per ro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64 rows per blo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4096 bits per blo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16 blocks arra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rray Diagra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6880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lock Diagra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6920" y="1162080"/>
            <a:ext cx="74566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itcell Layou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sign Cont’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ad/Write Signal System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ulse Generator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L Generato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cod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Read/Write Signal Syste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>Doug</dc:creator>
  <dc:description/>
  <dc:language>en-US</dc:language>
  <cp:lastModifiedBy>labtemp</cp:lastModifiedBy>
  <dcterms:modified xsi:type="dcterms:W3CDTF">2007-12-06T19:02:52Z</dcterms:modified>
  <cp:revision>12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